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6F3-0098-4F11-90CB-925EBF9B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1D5-1A15-4C18-9CEA-929AE4F4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349-2211-46C5-8943-0BACE914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63A-F566-477E-A0AF-0D7FC68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F0E2-1649-4774-A57B-F4B8EFA2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F91D-81C0-4E51-A7E6-85618B75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FC9F-F2F3-4432-B6B8-3360F8EE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735-DD26-4776-8930-82E27215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7D0-C575-458E-BD3B-6062B954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76AC-7745-4F29-9E74-AEA3DCE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18DE-789C-4FD7-A3A1-161E1E1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69D-BEC5-4F42-8607-C81B55D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FA6B-D975-458D-BA8C-C6092E7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D669-B16D-468D-9029-B34C3BD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6449-1713-45E4-99B6-F9D4A53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89B1-3DF9-4799-AE8C-8C0320D0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AD39-655B-43F1-A8AF-9B1D1B7A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2ED-1CD3-413F-B885-AF6C399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372-B434-47BC-9B4D-48EF099F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3D3-45E5-4BBB-BB58-D0438AE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62C-5DFB-4759-8730-9C7A8C2C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CB6-48B5-4253-A955-ABC3E4C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862-6255-4961-B2BB-08E52A2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099-41F3-45E5-A9B5-56335840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AC9-70B8-4B9D-8769-5C4D4CDFEDD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2A5-01D1-446E-BF61-09C935C2C50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rge:immense::________:_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narch:Kingdom::President: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Practice 1-Fill in the blank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was _______ by the time he got home, because he hadn’t eaten all da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 our drive from New York, we ________ the New Jersey Turnpik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wo former employees, whose names have not been_______ are suing the compan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opy is so perfect that it can hardly be ______________ from the origin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we want to be ____________ for the state championship, we need to work hard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cused Freewri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 minu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you rather live to be 105 but have a normal, ordinary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 famous, but only live to 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Great Gatsby-Ch.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part of ch. 1 served as an introduction to the novel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is Nick Carraway made the narrator? What is his relationship to the Buchanan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id Nick go East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cribe the relationship between Daisy and Tom. Do you think they were suited to each oth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is the significance of Tom’s reference to the book he is reading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revealing announcement does Jordan make to Nick about Tom? What does it show about Tom’s character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does Daisy hope her baby will be? What does she mean by thi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oes Daisy describe her youth as a “white girlhood?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cribe Gatsb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oes Gatsby reach out to the wat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ignm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point of view writing assignment. (Handout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ke quiz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2 for 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5:18:10Z</dcterms:created>
  <dc:creator>Angie</dc:creator>
  <dc:description/>
  <dc:language>en-US</dc:language>
  <cp:lastModifiedBy>Angie</cp:lastModifiedBy>
  <dcterms:modified xsi:type="dcterms:W3CDTF">2009-02-10T05:41:20Z</dcterms:modified>
  <cp:revision>2</cp:revision>
  <dc:subject/>
  <dc:title>DOA</dc:title>
</cp:coreProperties>
</file>